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292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29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2996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536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778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292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536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778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12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44360" y="188640"/>
            <a:ext cx="822960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129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2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2996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1292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1292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129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2996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9536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778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1292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9536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778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4360" y="188640"/>
            <a:ext cx="822960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29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2996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292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12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499"/>
              </a:spcBef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87200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462560" y="6485040"/>
            <a:ext cx="18864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fld id="{14A208C1-4F09-4322-BF14-F3D0344F8D7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360" y="56664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974960" y="4718160"/>
            <a:ext cx="1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3640" y="6607080"/>
            <a:ext cx="291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emens COM MD PBM BA – December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7086600" y="6319800"/>
            <a:ext cx="1925640" cy="428760"/>
          </a:xfrm>
          <a:prstGeom prst="rect">
            <a:avLst/>
          </a:prstGeom>
          <a:ln w="0">
            <a:noFill/>
          </a:ln>
        </p:spPr>
      </p:pic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8520" y="3002040"/>
            <a:ext cx="8817120" cy="15984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33240" y="3255840"/>
            <a:ext cx="4249800" cy="614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27080" y="149400"/>
            <a:ext cx="8818560" cy="2643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540640" y="8100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086600" y="6319800"/>
            <a:ext cx="1925640" cy="428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2120" algn="ctr">
              <a:spcBef>
                <a:spcPts val="400"/>
              </a:spcBef>
              <a:buClr>
                <a:srgbClr val="99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46240" algn="ctr"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4" marL="1523880" algn="ctr"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5" marL="15238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6" marL="15238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47560" y="4195800"/>
            <a:ext cx="64008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9280" indent="-179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scriptions of a mobile device: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05 01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urchasing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on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unctions of a mobile device</a:t>
            </a: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gregated description of main func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9560" y="1087200"/>
            <a:ext cx="4213080" cy="521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186840" indent="-18684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ke and receive ca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 connections using various stand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 ring t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lay menu, telephone book, calling party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 telephone nu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age &amp; standby time for telepho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6840" indent="-18684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eal to 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ractive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equate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ative mate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6840" indent="-18684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im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ke photo / 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wnload / stream / show 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lay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age time for ima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6840" indent="-18684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mus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wnload / play mu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 mu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en to ra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nd qu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age time for mu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65680" y="1087560"/>
            <a:ext cx="4213080" cy="52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86840" indent="-18684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ga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wnload 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 playing 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lay 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 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age time for ga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6840" indent="-18684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outdoor/leisure 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ect from environmental imp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tive /outdoor and leisure 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6840" indent="-18684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able mess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ous messaging standards (e.g. SMS, MMS, IM, POC,…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ous protocols (e.g. IP, SIP,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 &amp; Stor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6840" indent="-18684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PIM &amp; business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A functi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cument viewing and edi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 &amp; Store business 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6840" indent="-18684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er additional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innovative services/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ocation Based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1840" y="22680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 mobile device key purchasing criteria</a:t>
            </a: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gregated description of key purchasing criter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9560" y="1087200"/>
            <a:ext cx="4213080" cy="521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Necessary Parts (BN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F (Base Band IC, RF, Power Supply,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nectors (PS (Lumberg),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iel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-Components (analog &amp; discre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s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ous sensors (e.g. temperature, tilt, acceleration, heart, altimeter, barometer, compass, proximity, smell,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r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M-RA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m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amera 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l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59320" y="1089000"/>
            <a:ext cx="4503600" cy="522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play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C card holder or equival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C card or equival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using. Keypad, acou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per &amp; Lower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unting 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o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n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pad including ligh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aker(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y unit and access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Man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ed accesso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 mobile device key purchasing criteria</a:t>
            </a: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gregated description of key purchasing criter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9560" y="1087200"/>
            <a:ext cx="4213080" cy="521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p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 effects / el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venient size and we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m fa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ter and dust re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-s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need of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test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ceived to be latest by that point of time (e.g. color display, 1 Mpix camera, WL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lk- and standby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lk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by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age time – play  “games”, see videos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59320" y="1089000"/>
            <a:ext cx="4503600" cy="522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ease effici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st connection / download (UMTS, EDGE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and synchronization of P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transfer (Bluetooth, IrDA…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corporate mail, servers et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 -/ Receive -/ Stor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S, MMS, Video conference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-mails, Instant messaging, Blogging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ze and Flexibility (exchangeable)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ve f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y music, video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y 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en to radio, see T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ease safe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be located, or to locate 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find a 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have coverage, and to contact 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uition driv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um of key strokes (for key funct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 to enter/ start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09:36:31Z</dcterms:created>
  <dc:creator>Seidenschwarz &amp; Comp. GmbH</dc:creator>
  <dc:description/>
  <dc:language>en-US</dc:language>
  <cp:lastModifiedBy>Dirk Lutterbeck</cp:lastModifiedBy>
  <dcterms:modified xsi:type="dcterms:W3CDTF">2005-05-09T13:24:06Z</dcterms:modified>
  <cp:revision>18</cp:revision>
  <dc:subject/>
  <dc:title>Folie 1</dc:title>
</cp:coreProperties>
</file>